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2189-EEE4-448C-8144-F135E37DD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11D6-86DA-42C6-8DF3-5D02B2AC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094A-60D5-438F-9C1F-76645199B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A092-1F5C-44A3-8B9B-A94399703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10C3-732A-481C-867C-4362FFFC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E167-DBC5-4AB0-BC34-0799A386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D60C-D39F-48CA-8329-C4FA24D9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AFEC-B2C7-48EA-BA13-1C8FC033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93BB-DCFA-49BB-89FD-C5287852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138B-EAD1-4212-A3B6-2D7832CA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8A41-8480-4EBC-8BEE-E1A43BEE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9EE7-2942-4F1C-8B41-9BAB6915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56EA-F781-4DEE-908B-4F8F5F5B4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5689440"/>
            <a:ext cx="9144000" cy="11685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14400" y="2133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can student and parents find more information about financial 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315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ady for Colle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14400" y="266652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ncial Aid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portunities of a Life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04920" y="20570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most important points to remember when applying for financial 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first step when applying for financial 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FAFS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we get help compl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FSA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0570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the students in the video learn about financial 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various types of financial 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560" y="21333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hould students apply for financial 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9T03:56:07Z</dcterms:created>
  <dc:creator> DORIS TEAGUE</dc:creator>
  <dc:description/>
  <dc:language>en-US</dc:language>
  <cp:lastModifiedBy>bmcfarlin</cp:lastModifiedBy>
  <cp:lastPrinted>2005-05-19T19:33:38Z</cp:lastPrinted>
  <dcterms:modified xsi:type="dcterms:W3CDTF">2005-08-16T22:01:47Z</dcterms:modified>
  <cp:revision>12</cp:revision>
  <dc:subject/>
  <dc:title>Ready for College</dc:title>
</cp:coreProperties>
</file>